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653-D56E-4DCA-81F4-B4818287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A30-73FD-436B-9ED5-3DE0C78D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FC7-8B0A-4D50-94D7-42327445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592-09C9-4235-9CB5-82F8AB2F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65C-0C8F-4FC2-B513-44D11331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D20-5059-444E-A419-19226859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DB7-E7DD-48D6-BB9F-FA48A6D6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7A0-27B1-4FD9-9ED5-97EB4AB2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3ED-1553-4C48-9DAB-73F56518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C4F-D503-4C2C-8D10-D0DA8705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D9D-8523-4DD5-93C1-AC9D088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B4A-7FEE-4505-9CCC-B4692955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51E5-C0F9-4EB5-8174-BC2CBE10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8.xml"/><Relationship Id="rId12" Type="http://schemas.openxmlformats.org/officeDocument/2006/relationships/slide" Target="slide3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9.xml"/><Relationship Id="rId18" Type="http://schemas.openxmlformats.org/officeDocument/2006/relationships/slide" Target="slide17.xml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6.xml"/><Relationship Id="rId22" Type="http://schemas.openxmlformats.org/officeDocument/2006/relationships/slide" Target="slide19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3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Can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8.67% Potass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.85% Nitro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7.48%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36.0 g/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FU’s are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57 grams CaF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the roman num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 chemical name repres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rge on the metal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57 g Ba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43 g Chlor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56.0 g/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atoms are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247 moles Mg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sium 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.96 g Potass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35 g Sulf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.70 g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0"/>
            <a:ext cx="190512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pi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0"/>
            <a:ext cx="190476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0"/>
            <a:ext cx="18288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t L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8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92.0 g/mo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molecule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44 grams of 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nitrogen Pent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0% Iron, 30%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90.05 g/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mole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.011 g of NaC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055 m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minum Hydr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0% Carbon, 6.67% Hydroge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3.33% Oxyg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ar Mass: 92.12 g/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510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grams are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495 moles of 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.79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Office 2004 Test Drive User</cp:lastModifiedBy>
  <cp:lastPrinted>2001-01-31T16:21:13Z</cp:lastPrinted>
  <dcterms:modified xsi:type="dcterms:W3CDTF">2008-03-13T16:03:42Z</dcterms:modified>
  <cp:revision>65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